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CE13-ACF1-402F-9B2F-9735687B81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E552-3DCD-45E7-B4DC-D3A6EC0C2F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53D0-B5A2-452A-A883-F1C4E98BA1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D849-1812-4200-929B-8C703EFC42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D40E-1E3F-4CEB-88A1-9C5D19141D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590B-0510-4206-B1A5-6C626C6AE7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0F39-CAA6-466F-8FA3-C296FFDBCD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50A9-F15F-482E-BC29-CC0F84D97F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82DD-F525-4B1D-A827-CC4E1C9691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8B2E-0147-49D8-AD5E-72AAE146A6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A913-D9B9-4CB5-8D7F-0290C2140A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6AB0-0284-4F84-8DC1-31E009485F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7F94-57BF-42F4-8D38-8AB2672F59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7005-4036-4460-8A8C-F1C6388D12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E23C-9C94-4082-A757-C0BA8244CA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846E-8E38-439A-A2E7-135F03190E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4BC4-0B17-4420-93E2-6EFB83ED7A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F82B-0BDE-4513-8ADC-A1EF7AAB2B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F4F5-EA33-4B21-AFCB-23894BF20E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D7A8-3C74-40EB-A87A-F151F1FAB6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4780-5CCB-455E-9899-07FF7F6FEF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9DF2-71FA-42BF-8958-0CCA762BA9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C953-AB61-4E88-B7A7-2A8CD54F0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D02B-7F6D-4BE1-A56F-FA087A8E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434A-714D-43D8-B4E4-906A881C0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D810-698C-40E9-933B-CAE068B81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12F0-0BA0-4827-8A33-9D891E86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2CC2-F079-4637-8113-ADA72D8A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2B07-70B5-4321-8388-B0B0240E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E450-82FF-4DE2-BC52-98A80530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A9DF-E9E9-4CBB-833A-9F751625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CC47-8D7F-49F2-911A-40B1A6E1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451D-8BF1-4F12-9F0B-457B27A6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50E4-783E-407A-94AB-FAD657C9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8F76-A0FC-46A0-B915-909BCB55AF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idos.ru/journal/2005/1212.htm" TargetMode="External"/><Relationship Id="rId2" Type="http://schemas.openxmlformats.org/officeDocument/2006/relationships/hyperlink" Target="http://festival.1september.ru/articles/574903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9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Формирование нравственных установок учащихся на уроках филологического цикл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fbfbf"/>
                </a:solidFill>
                <a:latin typeface="Arial"/>
              </a:rPr>
              <a:t>Токранов Николай Валерьевич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fbfbf"/>
                </a:solidFill>
                <a:latin typeface="Arial"/>
              </a:rPr>
              <a:t>учитель русского языка и литературы МБОУ «Средняя школа №111» Советского района г.Каз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AD359-F3A1-4C40-AD35-9DB0A149B5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Organization Chart 7"/>
          <p:cNvGrpSpPr/>
          <p:nvPr/>
        </p:nvGrpSpPr>
        <p:grpSpPr>
          <a:xfrm>
            <a:off x="0" y="98280"/>
            <a:ext cx="9143640" cy="6606720"/>
            <a:chOff x="0" y="98280"/>
            <a:chExt cx="9143640" cy="6606720"/>
          </a:xfrm>
        </p:grpSpPr>
        <p:cxnSp>
          <p:nvCxnSpPr>
            <p:cNvPr id="79" name="_s2052"/>
            <p:cNvCxnSpPr>
              <a:stCxn id="80" idx="1"/>
              <a:endCxn id="81" idx="2"/>
            </p:cNvCxnSpPr>
            <p:nvPr/>
          </p:nvCxnSpPr>
          <p:spPr>
            <a:xfrm rot="10800000">
              <a:off x="6681240" y="3873600"/>
              <a:ext cx="352080" cy="2359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_s2053"/>
            <p:cNvCxnSpPr>
              <a:stCxn id="83" idx="1"/>
              <a:endCxn id="81" idx="2"/>
            </p:cNvCxnSpPr>
            <p:nvPr/>
          </p:nvCxnSpPr>
          <p:spPr>
            <a:xfrm rot="10800000">
              <a:off x="6681240" y="3872880"/>
              <a:ext cx="352080" cy="94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2054"/>
            <p:cNvCxnSpPr>
              <a:stCxn id="85" idx="1"/>
              <a:endCxn id="86" idx="2"/>
            </p:cNvCxnSpPr>
            <p:nvPr/>
          </p:nvCxnSpPr>
          <p:spPr>
            <a:xfrm rot="10800000">
              <a:off x="3867480" y="3873600"/>
              <a:ext cx="352080" cy="2359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2055"/>
            <p:cNvCxnSpPr>
              <a:stCxn id="88" idx="1"/>
              <a:endCxn id="86" idx="2"/>
            </p:cNvCxnSpPr>
            <p:nvPr/>
          </p:nvCxnSpPr>
          <p:spPr>
            <a:xfrm rot="10800000">
              <a:off x="3867480" y="3872880"/>
              <a:ext cx="352080" cy="94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" name="_s2056"/>
            <p:cNvCxnSpPr>
              <a:stCxn id="90" idx="1"/>
              <a:endCxn id="91" idx="2"/>
            </p:cNvCxnSpPr>
            <p:nvPr/>
          </p:nvCxnSpPr>
          <p:spPr>
            <a:xfrm rot="10800000">
              <a:off x="1054080" y="3872880"/>
              <a:ext cx="352080" cy="94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2057"/>
            <p:cNvCxnSpPr>
              <a:stCxn id="81" idx="0"/>
              <a:endCxn id="93" idx="2"/>
            </p:cNvCxnSpPr>
            <p:nvPr/>
          </p:nvCxnSpPr>
          <p:spPr>
            <a:xfrm flipV="1">
              <a:off x="6681960" y="2457360"/>
              <a:ext cx="2880" cy="472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2058"/>
            <p:cNvCxnSpPr>
              <a:stCxn id="86" idx="0"/>
              <a:endCxn id="95" idx="2"/>
            </p:cNvCxnSpPr>
            <p:nvPr/>
          </p:nvCxnSpPr>
          <p:spPr>
            <a:xfrm flipV="1" rot="16200000">
              <a:off x="2928600" y="1989720"/>
              <a:ext cx="472320" cy="1407240"/>
            </a:xfrm>
            <a:prstGeom prst="bentConnector3">
              <a:avLst>
                <a:gd name="adj1" fmla="val 261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6" name="_s2059"/>
            <p:cNvCxnSpPr>
              <a:stCxn id="91" idx="0"/>
              <a:endCxn id="95" idx="2"/>
            </p:cNvCxnSpPr>
            <p:nvPr/>
          </p:nvCxnSpPr>
          <p:spPr>
            <a:xfrm flipH="1" flipV="1" rot="5400000">
              <a:off x="1521720" y="1989720"/>
              <a:ext cx="472320" cy="1407240"/>
            </a:xfrm>
            <a:prstGeom prst="bentConnector3">
              <a:avLst>
                <a:gd name="adj1" fmla="val 261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2060"/>
            <p:cNvCxnSpPr>
              <a:stCxn id="93" idx="0"/>
              <a:endCxn id="98" idx="2"/>
            </p:cNvCxnSpPr>
            <p:nvPr/>
          </p:nvCxnSpPr>
          <p:spPr>
            <a:xfrm flipV="1" rot="16200000">
              <a:off x="5390280" y="222120"/>
              <a:ext cx="472320" cy="2110680"/>
            </a:xfrm>
            <a:prstGeom prst="bentConnector3">
              <a:avLst>
                <a:gd name="adj1" fmla="val 262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2061"/>
            <p:cNvCxnSpPr>
              <a:stCxn id="95" idx="0"/>
              <a:endCxn id="98" idx="2"/>
            </p:cNvCxnSpPr>
            <p:nvPr/>
          </p:nvCxnSpPr>
          <p:spPr>
            <a:xfrm flipH="1" flipV="1" rot="5400000">
              <a:off x="3280320" y="222120"/>
              <a:ext cx="472320" cy="2110680"/>
            </a:xfrm>
            <a:prstGeom prst="bentConnector3">
              <a:avLst>
                <a:gd name="adj1" fmla="val 262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8" name="_s2062"/>
            <p:cNvSpPr/>
            <p:nvPr/>
          </p:nvSpPr>
          <p:spPr>
            <a:xfrm>
              <a:off x="3516840" y="9828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Читательска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грамот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2063"/>
            <p:cNvSpPr/>
            <p:nvPr/>
          </p:nvSpPr>
          <p:spPr>
            <a:xfrm>
              <a:off x="1406520" y="151380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пора на тек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2064"/>
            <p:cNvSpPr/>
            <p:nvPr/>
          </p:nvSpPr>
          <p:spPr>
            <a:xfrm>
              <a:off x="5626800" y="151380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пора н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нетекстово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зн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2065"/>
            <p:cNvSpPr/>
            <p:nvPr/>
          </p:nvSpPr>
          <p:spPr>
            <a:xfrm>
              <a:off x="0" y="292968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айти и извлеч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информацию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2066"/>
            <p:cNvSpPr/>
            <p:nvPr/>
          </p:nvSpPr>
          <p:spPr>
            <a:xfrm>
              <a:off x="2813400" y="292968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нтегрировать 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нтерпретирова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информацию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2067"/>
            <p:cNvSpPr/>
            <p:nvPr/>
          </p:nvSpPr>
          <p:spPr>
            <a:xfrm>
              <a:off x="5626800" y="292968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смыслит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 оцени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сообщение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2068"/>
            <p:cNvSpPr/>
            <p:nvPr/>
          </p:nvSpPr>
          <p:spPr>
            <a:xfrm>
              <a:off x="1406520" y="434556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звлеч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информацию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2069"/>
            <p:cNvSpPr/>
            <p:nvPr/>
          </p:nvSpPr>
          <p:spPr>
            <a:xfrm>
              <a:off x="4219920" y="4345560"/>
              <a:ext cx="2109960" cy="939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формироват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бщее пониман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текс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2070"/>
            <p:cNvSpPr/>
            <p:nvPr/>
          </p:nvSpPr>
          <p:spPr>
            <a:xfrm>
              <a:off x="4219920" y="5761440"/>
              <a:ext cx="2109960" cy="939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толковать тек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2071"/>
            <p:cNvSpPr/>
            <p:nvPr/>
          </p:nvSpPr>
          <p:spPr>
            <a:xfrm>
              <a:off x="7033680" y="434556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смыслить 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ценить содержа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ие текс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2072"/>
            <p:cNvSpPr/>
            <p:nvPr/>
          </p:nvSpPr>
          <p:spPr>
            <a:xfrm>
              <a:off x="7033680" y="576144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смыслить 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ценить форм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текст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ение способов самостоятельного анализа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Вопросы анке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1. Составляю план                                                          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2. Выписываю сложные места                                        4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3. Запоминаю весь текст или его части                         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4. Разбираю сложные места при помощи                     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взрослых или дополнительной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5. Читаю текст несколько раз                                          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6. Составляю таблицу или схему                                   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7. Легко подбираю примеры к                                         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предложенному текс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8. Легко пересказываю текст учебника                           4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своими слов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Репрезентативная выборка составила 50 челов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2f2f2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6E94-8A3B-4824-80D6-B522E2A5CE1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Диагностическая карта уровней восприятия текста Ф.Абрамова «О чем плачут лошади»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учащихся 7-го класса (по Н.Д.Молдавской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905120"/>
          <a:ext cx="8305920" cy="4227480"/>
        </p:xfrm>
        <a:graphic>
          <a:graphicData uri="http://schemas.openxmlformats.org/drawingml/2006/table">
            <a:tbl>
              <a:tblPr/>
              <a:tblGrid>
                <a:gridCol w="1703520"/>
                <a:gridCol w="2011320"/>
                <a:gridCol w="2293920"/>
                <a:gridCol w="2297160"/>
              </a:tblGrid>
              <a:tr h="335412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тографи-ческое  восприя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уров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разное обобщение на сюжетно-событийной основ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уров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разное обобщение на основе осмысления композиционных связей без понимания образа авт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уров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разное обобщение на композиционной основе с ограниченным пониманием образа авт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336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з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з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E263-16CE-437A-A384-AD807D19CC7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8600" y="24444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Диагностика уровня усвоения учащимися 7-го класса содержания нравственных понятий в ходе анализа текста  Ф.Абрамова «О чем плачут лошади» (по Павловой И.И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33520" y="1600200"/>
          <a:ext cx="8153280" cy="4595760"/>
        </p:xfrm>
        <a:graphic>
          <a:graphicData uri="http://schemas.openxmlformats.org/drawingml/2006/table">
            <a:tbl>
              <a:tblPr/>
              <a:tblGrid>
                <a:gridCol w="2271600"/>
                <a:gridCol w="1604880"/>
                <a:gridCol w="1470240"/>
                <a:gridCol w="1434960"/>
                <a:gridCol w="1371600"/>
              </a:tblGrid>
              <a:tr h="7318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ределяемое поня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ним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бал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авильное поним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бал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глубо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ним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бал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поним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бал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8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триот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544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тернационализ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лектив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удолюб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бежд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40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ужеств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4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еро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960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ви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ветств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уман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88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циональное достоин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ест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4B1E-0114-4357-A15C-A9444771A9F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тодический инструмента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иды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оварн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ота с текс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тие речи (устной и письменн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Формы работы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седа (репродуктивная и эвристическ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сп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следован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щение в виртуальном простран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E7E1-A40D-4DF6-B251-C11F5CE0B37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тодический инструмента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Технологии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я развития критического мышления через чтение (способность ставить новые вопросы, вырабатывать разнообразные аргументы, принимать независимые продуманные решени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я поэтапного формирования умений учи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я формирования «вдумчивого читателя» (инсерт, рафт, «толстые» и «тонкие» вопросы, чтение с пометами, класте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СО, ГС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ы проблемно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ейс-стади </a:t>
            </a: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B674-57F1-49AA-9DAD-631AC552127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ластер «Образная система в повести А.И.Куприна «Олес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6"/>
          <p:cNvSpPr/>
          <p:nvPr/>
        </p:nvSpPr>
        <p:spPr>
          <a:xfrm>
            <a:off x="1676520" y="1828800"/>
            <a:ext cx="144756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ллигент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533520" y="2590920"/>
            <a:ext cx="144756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реши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8"/>
          <p:cNvSpPr/>
          <p:nvPr/>
        </p:nvSpPr>
        <p:spPr>
          <a:xfrm>
            <a:off x="762120" y="3886200"/>
            <a:ext cx="16002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способ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 самопожертвов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9"/>
          <p:cNvSpPr/>
          <p:nvPr/>
        </p:nvSpPr>
        <p:spPr>
          <a:xfrm>
            <a:off x="5715000" y="1752480"/>
            <a:ext cx="16002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особ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 самоотвержен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юбв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0"/>
          <p:cNvSpPr/>
          <p:nvPr/>
        </p:nvSpPr>
        <p:spPr>
          <a:xfrm>
            <a:off x="7010280" y="2590920"/>
            <a:ext cx="129564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ши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1"/>
          <p:cNvSpPr/>
          <p:nvPr/>
        </p:nvSpPr>
        <p:spPr>
          <a:xfrm>
            <a:off x="7162920" y="40384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стота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те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2286000" y="4952880"/>
            <a:ext cx="17524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лове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ивил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5029200" y="4876920"/>
            <a:ext cx="1828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лове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 мира прир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2590920" y="3200400"/>
            <a:ext cx="15238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в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мофе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4876920" y="3276720"/>
            <a:ext cx="1371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ле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3581280" y="609588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тит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2"/>
          <p:cNvSpPr/>
          <p:nvPr/>
        </p:nvSpPr>
        <p:spPr>
          <a:xfrm flipH="1" flipV="1">
            <a:off x="2590920" y="274320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3"/>
          <p:cNvSpPr/>
          <p:nvPr/>
        </p:nvSpPr>
        <p:spPr>
          <a:xfrm flipH="1" flipV="1">
            <a:off x="1828440" y="335232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4"/>
          <p:cNvSpPr/>
          <p:nvPr/>
        </p:nvSpPr>
        <p:spPr>
          <a:xfrm flipH="1">
            <a:off x="2209320" y="396252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5"/>
          <p:cNvSpPr/>
          <p:nvPr/>
        </p:nvSpPr>
        <p:spPr>
          <a:xfrm>
            <a:off x="297180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6"/>
          <p:cNvSpPr/>
          <p:nvPr/>
        </p:nvSpPr>
        <p:spPr>
          <a:xfrm flipV="1">
            <a:off x="5791320" y="25905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7"/>
          <p:cNvSpPr/>
          <p:nvPr/>
        </p:nvSpPr>
        <p:spPr>
          <a:xfrm flipV="1">
            <a:off x="6172200" y="3352320"/>
            <a:ext cx="9907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8"/>
          <p:cNvSpPr/>
          <p:nvPr/>
        </p:nvSpPr>
        <p:spPr>
          <a:xfrm>
            <a:off x="6248520" y="4114800"/>
            <a:ext cx="9903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0"/>
          <p:cNvSpPr/>
          <p:nvPr/>
        </p:nvSpPr>
        <p:spPr>
          <a:xfrm>
            <a:off x="6019920" y="419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3"/>
          <p:cNvSpPr/>
          <p:nvPr/>
        </p:nvSpPr>
        <p:spPr>
          <a:xfrm>
            <a:off x="3048120" y="586728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4"/>
          <p:cNvSpPr/>
          <p:nvPr/>
        </p:nvSpPr>
        <p:spPr>
          <a:xfrm flipV="1">
            <a:off x="5410080" y="57909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лгоритм формирования навыка «вдумчивого» ч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ва главная мысль абзац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ределите ключевые слова и словосочетания в данном отрыв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связана главная мысль данного абзаца с содержанием предыдущего абзац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 чем предположительно пойдет речь в следующем абзаце?</a:t>
            </a: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EA8E-C6B1-4B55-A1DA-057A2399ADC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Object 2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6988320" cy="47750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межуточная диагно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6"/>
          <p:cNvGraphicFramePr/>
          <p:nvPr/>
        </p:nvGraphicFramePr>
        <p:xfrm>
          <a:off x="4495680" y="914400"/>
          <a:ext cx="4586400" cy="3265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914400"/>
                    <a:ext cx="4586400" cy="32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2554-A69B-4D4E-948A-CADEAE60362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228600" y="2362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928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Рисунок 4" descr=""/>
          <p:cNvPicPr/>
          <p:nvPr/>
        </p:nvPicPr>
        <p:blipFill>
          <a:blip r:embed="rId1"/>
          <a:srcRect l="30436" t="0" r="22135" b="0"/>
          <a:stretch/>
        </p:blipFill>
        <p:spPr>
          <a:xfrm>
            <a:off x="609480" y="0"/>
            <a:ext cx="822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ктуальность 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едеральный государственный стандарт основного общего образования по русскому языку и литературе определяет главными целями изучения предметов формирование духовно развитой личности, обладающей гуманистическим мировоззрением, чувством патриотизма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Arial"/>
              </a:rPr>
              <a:t>Методологической основой разработки и реализации федерального государственного образовательного стандарта общего образования является концепция духовно-нравственного развития и воспитания личности гражданина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6F97-98B8-49A0-BE05-DC2FA432AB7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Литературно-музыкальная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тудия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17 кабинет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86728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усские народные пес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усский роман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ворчество бардов -шестидесят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ходные пес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временные рок-исполнител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00000"/>
                </a:solidFill>
                <a:latin typeface="Arial"/>
              </a:rPr>
              <a:t>Жизнь, судьба, эпоха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После уроков2"/>
          <p:cNvPicPr/>
          <p:nvPr/>
        </p:nvPicPr>
        <p:blipFill>
          <a:blip r:embed="rId1"/>
          <a:stretch/>
        </p:blipFill>
        <p:spPr>
          <a:xfrm>
            <a:off x="6362640" y="121932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После уроков3"/>
          <p:cNvPicPr/>
          <p:nvPr/>
        </p:nvPicPr>
        <p:blipFill>
          <a:blip r:embed="rId2"/>
          <a:stretch/>
        </p:blipFill>
        <p:spPr>
          <a:xfrm>
            <a:off x="5105520" y="2971800"/>
            <a:ext cx="2590560" cy="1941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шкид3"/>
          <p:cNvPicPr/>
          <p:nvPr/>
        </p:nvPicPr>
        <p:blipFill>
          <a:blip r:embed="rId3"/>
          <a:stretch/>
        </p:blipFill>
        <p:spPr>
          <a:xfrm>
            <a:off x="6248520" y="4648320"/>
            <a:ext cx="259056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межуточная диагнос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Патриотизм для меня - понятие двойственное. С одной стороны, в нём много общественного, с другой, что-то личное, свое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Быть патриотом не значит везде и всюду хвалить свою страну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Достоинство – понятие обширное. Нужно быть достойным своей семьи и своей страны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Толерантность – это не просто эффектное слово. Это работа на каждый день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терату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едеральный государственный образовательный стандарт основного общего образования /Министерство образования и науки РФ.- М.: Просвещение,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ундаментальное ядро содержания общего образования /Под ред. В.В.Козлова, А .М. Кондакова .- М.: Просвещение, 200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Хуторской А.В. Технология проектирования ключевых и предметных компетенций [Электронный ресурс] // Режим доступа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idos.ru/journal/2005/1212.htm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урьянова А.В. Компетентностный подход в образовании [Электронный ресурс] // Режим доступа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festival.1september.ru/articles/574903/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елевко Г.К. Современные образовательные технологии. Учебное пособие. М.: Народное образование, 1998, 256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.Мередит, Ч.Темпл, Д.Стил, «Воспитание  вдумчивых  читателей»,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.О.Загашева «Заметки на полях. Пример занятия, направленного на развитие критического мышления учащихся на основе стратегии «Условные значки» ( «Библиотека в школе», 2004, №18, с. 10-13)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каткин М.Н. Проблемы современной дидактики. М. Педагогика 198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ахмутов М.И. Организация проблемного обучения М. Педагогика 1977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50F5-540F-4035-954A-90D95EF44DD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ализ научно-методической литер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088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научно-методической литературе (А.В. Хуторской, В.В.Краевский, А.В.Гурьянова, И.А.Зимняя),  несмотря на наличие нескольких  подходов, приоритетными опреде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енностно-смысловы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щекульту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бно-познава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формацио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ммуника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циально-труд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мпетенции личностного самосовершенств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1C97-3666-490D-A92D-1C90176B547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ль и задачи педагогическ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ирование ценностно-смысловых, нравственных установок школьников в образовательном пространстве в  предметной области «Русский язык и литератур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ализ программно-методического сопровождения предметной обла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руктуризация ценностных установок в соответствии с возрастными особенностями учащего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тавление тезауруса нравственных понятий  для введения в учебное  поле учащих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явление эффективных педагогических техник работы с учебным текстом с целью актуализации в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ниторинг сформированности нравственных установок 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6854-8B50-4743-8172-ABD2AF500A3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едметные зада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вести к усвоению и осознанию основных нравственных поня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вести к пониманию нравственных проблем, поднятых в русской и зарубежной литерат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ть навыки критического мыш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ть навыки принятия коллективных и самостоятельных ре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6618-49EC-4B7E-BFB5-0FF9E71E8C4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водная диагно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седы с учащимися в урочное и внеурочное врем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блюд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рос родител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кетир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ниторинг литературных предпочтений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ализ творческих работ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канирование аккаунтов в социальных сет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be0e3"/>
                </a:solidFill>
                <a:latin typeface="Arial"/>
              </a:rPr>
              <a:t>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24028"/>
          <p:cNvPicPr/>
          <p:nvPr/>
        </p:nvPicPr>
        <p:blipFill>
          <a:blip r:embed="rId1"/>
          <a:stretch/>
        </p:blipFill>
        <p:spPr>
          <a:xfrm>
            <a:off x="6108840" y="4286160"/>
            <a:ext cx="2340000" cy="3510000"/>
          </a:xfrm>
          <a:prstGeom prst="rect">
            <a:avLst/>
          </a:prstGeom>
          <a:ln w="0">
            <a:noFill/>
          </a:ln>
        </p:spPr>
      </p:pic>
      <p:sp>
        <p:nvSpPr>
          <p:cNvPr id="6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E8A6-93C9-4DB4-BB25-D42BB38AD75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бразец диагнос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                    </a:t>
            </a:r>
            <a:r>
              <a:rPr b="1" lang="ru-RU" sz="3200" spc="-1" strike="noStrike">
                <a:solidFill>
                  <a:srgbClr val="bbe0e3"/>
                </a:solidFill>
                <a:latin typeface="Arial"/>
              </a:rPr>
              <a:t>Анкетирование</a:t>
            </a: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Какую бы тему ты выбрал для работы над домашним сочинени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чести в повести А.С. Пушкина «Капитанская доч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рическая эпоха в повести А.С. Пушкина «Капитанская доч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свободы в поэме М.Ю.Лермонтова «Мцыр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вод: дети выбирают конкретную тему, не подразумевающую проявления собственной позиции  и критичности 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E32F-9E4D-4512-866B-EB726CF5BA3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4"/>
          <p:cNvGraphicFramePr/>
          <p:nvPr/>
        </p:nvGraphicFramePr>
        <p:xfrm>
          <a:off x="0" y="1065240"/>
          <a:ext cx="8326440" cy="53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5240"/>
                    <a:ext cx="8326440" cy="53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езультаты анкетир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31A9-DD67-4C0B-B62A-D7A4F7D24C2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609480" y="990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витие эмоциональной сф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чностный смысл изучаемого содерж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жительный эмоциональный фон учебных зан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ди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переж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вчувствов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5073-3FE4-4909-A902-914F94132AB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7:40:06Z</dcterms:created>
  <dc:creator>Николай</dc:creator>
  <dc:description/>
  <dc:language>en-US</dc:language>
  <cp:lastModifiedBy>user</cp:lastModifiedBy>
  <dcterms:modified xsi:type="dcterms:W3CDTF">2012-09-25T04:36:20Z</dcterms:modified>
  <cp:revision>1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